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D10D-059D-4DAE-A92B-D5BA38813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975A-D9AF-48F6-9F09-373EC0019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5746-8CF3-46A0-9A91-F90448BB5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A6B3-4AAD-49C0-A321-D1BDC63E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E0F8-0038-4F45-9CDB-69CBA3776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FBB9-1D14-4C6D-A398-49AA330C9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916D-2996-4E97-91D9-724C5992F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B3D4-3F2C-4D12-9C76-08DF480E1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oose a PPQT with either a grade 7 or a grade 8 curriculum expectation.  Both are based on proportional reasoning focusing on percent. Identify the Big Idea and lesson goal.  Use all of this information to write a consolidaitng ques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BD3E-7B64-461A-B80D-EE8B6C23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673B-5C75-43C3-87C3-02858A4A1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24E1-2386-438D-BED6-38C4D9C2E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CFE-2DE5-4AB1-9120-3E119813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E4C-ADAB-4EBA-AB91-66DC08A7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552-F0CD-4639-A135-5D6C233B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D22-7C52-4D52-994D-509DADE6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23D3-783D-4108-BFCE-2D0F5D00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2ECF-C522-4213-AA88-E1F508D7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7346-BB8D-4937-8531-60D3FDFD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99FC-DB8F-4AD7-BBC7-4C417A17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F9B5-4127-4CEA-ADDD-9ABA7013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22E4-2268-4931-A280-B0BAD5FD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07A4-4194-47E6-B892-1EAD7B2C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24E-DC5D-4EC2-A11C-64721301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98F2-14C8-4F11-BA2C-AD17DD1F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4896-3FD8-4134-951E-C79033B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B75F-5D66-401F-B19E-6093CA5A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38CC-7C99-421F-AEA9-CB0A866B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7BCE-6D2C-4D9C-B819-F7AA48CB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DFA-7FD8-49D6-8480-8538D8CC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F68-E88E-4BF2-80F2-66AE9EE8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9A4-E70B-4508-8772-3B21E6A4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9F3-DC48-4D17-9E2F-2B2DB4C9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E87-D2EC-423A-B2C0-A874A15A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A00-BE06-4287-9552-288AAF5A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0EE-79BE-485A-9084-19572609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1DD4-49CA-4538-887C-9F63C475F18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A32F-3562-40D8-A701-47DA6DAFBD3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ades 7/8 Breakout Session 2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Professional Learning Log Entr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the Big Idea inform your lesson goal and consolidating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find easy/challenging about the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lowchart: Process 3"/>
          <p:cNvSpPr/>
          <p:nvPr/>
        </p:nvSpPr>
        <p:spPr>
          <a:xfrm>
            <a:off x="357120" y="285840"/>
            <a:ext cx="8501040" cy="6143400"/>
          </a:xfrm>
          <a:prstGeom prst="flowChartProcess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Plenary Focus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: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essment for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eating or adapting tasks to focus on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reakout 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effective consolidat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stand the link between the Big Ideas, curriculum expectations , lesson goals and consolidat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Which consolidation question would your group choose and why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What makes a good consolidating question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28526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tructional strategy - Anchor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Effective Lesson Goals </a:t>
            </a:r>
            <a:br>
              <a:rPr sz="4400"/>
            </a:br>
            <a:r>
              <a:rPr b="0" lang="en-CA" sz="2200" spc="-1" strike="noStrike">
                <a:solidFill>
                  <a:srgbClr val="0d469b"/>
                </a:solidFill>
                <a:latin typeface="Arial"/>
              </a:rPr>
              <a:t>Marian Small</a:t>
            </a:r>
            <a:endParaRPr b="0" lang="en-US" sz="2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rriculum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es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ually rooted in conceptu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ually filtered through a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th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Posing Powerful Questions Template</a:t>
            </a:r>
            <a:br>
              <a:rPr sz="4000"/>
            </a:b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edugai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714920" y="1643040"/>
            <a:ext cx="3517920" cy="471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338292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1857240" y="17859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6286680" y="15717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 rot="20306400">
            <a:off x="2985120" y="4789440"/>
            <a:ext cx="21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per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consolidating question on a strip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witch questions with another pair and discuss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as the Big Idea and the lesson goal based on the consolidating question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ir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et with your pair to share your discuss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ebrief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d you agree on the Big Idea and lesson goal based on the consolidating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it possible to have more than one Big Idea and/or learning goal for the same consolidating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KPRUser</cp:lastModifiedBy>
  <dcterms:modified xsi:type="dcterms:W3CDTF">2010-08-17T23:27:23Z</dcterms:modified>
  <cp:revision>174</cp:revision>
  <dc:subject/>
  <dc:title>Slide 1</dc:title>
</cp:coreProperties>
</file>